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19A-B781-4194-BB65-761ED4F5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54FD-1F6D-457D-AD2D-6AC2ECEF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7F3-D0B0-472E-8BF9-85C2EC7C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7A63-E985-477A-92A9-54260710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306-D495-4F17-AA97-7CFD1DE2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515B-5103-4158-846D-05E72294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BB9-A4EE-4F7C-9D80-106B3C69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0556-6778-4A32-BE16-D14B80CE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2EA-94CD-44A2-AB44-221B6E6C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2945-9E2A-47F0-B354-D261673A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7D5-30F7-4D42-8F73-406EE1D4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1DC-570B-42E4-BCA6-543E621F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0F0C-59F9-4A87-8504-A71D62AFD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9360" y="3352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936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27432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 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ude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3505320"/>
            <a:ext cx="182520" cy="182520"/>
            <a:chOff x="457200" y="3505320"/>
            <a:chExt cx="182520" cy="182520"/>
          </a:xfrm>
        </p:grpSpPr>
        <p:sp>
          <p:nvSpPr>
            <p:cNvPr id="45" name=""/>
            <p:cNvSpPr/>
            <p:nvPr/>
          </p:nvSpPr>
          <p:spPr>
            <a:xfrm>
              <a:off x="45720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5400000">
              <a:off x="49140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85800" y="3581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7440" y="3429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19376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34604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270080" y="3504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08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22360" y="358128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164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5960" y="2209680"/>
            <a:ext cx="35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20" y="19810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03240" y="20574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0816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588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55880" y="31240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36760" y="3809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0816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9240" y="20574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10320" y="3048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81952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6064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60640" y="3581280"/>
            <a:ext cx="3049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56080" y="3581280"/>
            <a:ext cx="3045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60640" y="3276720"/>
            <a:ext cx="3049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3276720"/>
            <a:ext cx="3045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4168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7048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9396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9396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2276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2276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4624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7504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4624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4624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7504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31784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46240" y="2362320"/>
            <a:ext cx="48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75040" y="2362320"/>
            <a:ext cx="48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31840" y="1371600"/>
            <a:ext cx="7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% Na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13716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% Enzy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riger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56280" y="3200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1784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495680" y="3505320"/>
            <a:ext cx="182520" cy="182520"/>
            <a:chOff x="4495680" y="3505320"/>
            <a:chExt cx="182520" cy="182520"/>
          </a:xfrm>
        </p:grpSpPr>
        <p:sp>
          <p:nvSpPr>
            <p:cNvPr id="91" name=""/>
            <p:cNvSpPr/>
            <p:nvPr/>
          </p:nvSpPr>
          <p:spPr>
            <a:xfrm>
              <a:off x="449568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5400000">
              <a:off x="452988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648320" y="358128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6084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32240" y="3733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60840" y="3733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8944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257440" y="28954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84000" y="26668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46840" y="4343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82316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97544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23160" y="4419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899480" y="44193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6576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43600" y="3505320"/>
            <a:ext cx="182520" cy="182520"/>
            <a:chOff x="5943600" y="3505320"/>
            <a:chExt cx="182520" cy="182520"/>
          </a:xfrm>
        </p:grpSpPr>
        <p:sp>
          <p:nvSpPr>
            <p:cNvPr id="107" name=""/>
            <p:cNvSpPr/>
            <p:nvPr/>
          </p:nvSpPr>
          <p:spPr>
            <a:xfrm>
              <a:off x="594360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5400000">
              <a:off x="597780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095880" y="358128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08760" y="3581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89640" y="35812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908040" y="4419720"/>
            <a:ext cx="742320" cy="765360"/>
            <a:chOff x="6908040" y="4419720"/>
            <a:chExt cx="742320" cy="765360"/>
          </a:xfrm>
        </p:grpSpPr>
        <p:sp>
          <p:nvSpPr>
            <p:cNvPr id="113" name=""/>
            <p:cNvSpPr/>
            <p:nvPr/>
          </p:nvSpPr>
          <p:spPr>
            <a:xfrm>
              <a:off x="7230960" y="44197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"/>
            <p:cNvCxnSpPr/>
            <p:nvPr/>
          </p:nvCxnSpPr>
          <p:spPr>
            <a:xfrm flipH="1">
              <a:off x="6908040" y="46022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5" name=""/>
            <p:cNvCxnSpPr/>
            <p:nvPr/>
          </p:nvCxnSpPr>
          <p:spPr>
            <a:xfrm flipH="1" flipV="1">
              <a:off x="7321680" y="46108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6" name=""/>
            <p:cNvCxnSpPr/>
            <p:nvPr/>
          </p:nvCxnSpPr>
          <p:spPr>
            <a:xfrm flipH="1" flipV="1">
              <a:off x="7321680" y="46868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7" name=""/>
            <p:cNvCxnSpPr/>
            <p:nvPr/>
          </p:nvCxnSpPr>
          <p:spPr>
            <a:xfrm flipH="1" flipV="1">
              <a:off x="7321680" y="47682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"/>
            <p:cNvCxnSpPr/>
            <p:nvPr/>
          </p:nvCxnSpPr>
          <p:spPr>
            <a:xfrm flipH="1" flipV="1">
              <a:off x="7321680" y="48362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" name=""/>
            <p:cNvCxnSpPr/>
            <p:nvPr/>
          </p:nvCxnSpPr>
          <p:spPr>
            <a:xfrm flipH="1" flipV="1">
              <a:off x="7321680" y="49172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" name=""/>
            <p:cNvCxnSpPr/>
            <p:nvPr/>
          </p:nvCxnSpPr>
          <p:spPr>
            <a:xfrm flipH="1">
              <a:off x="6908040" y="46785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1" name=""/>
            <p:cNvCxnSpPr/>
            <p:nvPr/>
          </p:nvCxnSpPr>
          <p:spPr>
            <a:xfrm flipH="1">
              <a:off x="6908040" y="47595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" name=""/>
            <p:cNvCxnSpPr/>
            <p:nvPr/>
          </p:nvCxnSpPr>
          <p:spPr>
            <a:xfrm flipH="1">
              <a:off x="6908400" y="48366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3" name=""/>
            <p:cNvCxnSpPr/>
            <p:nvPr/>
          </p:nvCxnSpPr>
          <p:spPr>
            <a:xfrm flipH="1">
              <a:off x="6908400" y="49176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" name=""/>
            <p:cNvCxnSpPr/>
            <p:nvPr/>
          </p:nvCxnSpPr>
          <p:spPr>
            <a:xfrm>
              <a:off x="6909120" y="51843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/>
            <p:nvPr/>
          </p:nvCxnSpPr>
          <p:spPr>
            <a:xfrm>
              <a:off x="6908400" y="47595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" name=""/>
            <p:cNvCxnSpPr/>
            <p:nvPr/>
          </p:nvCxnSpPr>
          <p:spPr>
            <a:xfrm>
              <a:off x="7649280" y="47595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27" name=""/>
          <p:cNvSpPr/>
          <p:nvPr/>
        </p:nvSpPr>
        <p:spPr>
          <a:xfrm flipH="1">
            <a:off x="6299280" y="4495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95080" y="4267080"/>
            <a:ext cx="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 - G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7280" y="29718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556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348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00880" y="2971800"/>
            <a:ext cx="45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534520" y="40384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390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10480" y="4572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839080" y="4572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15200" y="44956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9172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861012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537040" y="35053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26840" y="3581280"/>
            <a:ext cx="7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8480" y="32004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98240" y="41148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17720" y="4191120"/>
            <a:ext cx="37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514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30481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0481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77320" y="4495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77320" y="43434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429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70572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85800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781680" y="35049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85800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54880" y="32004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6576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1148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6576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89120" y="51814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11480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39080" y="3733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2096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429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3429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3429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3429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2743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32767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3716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3733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38862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27432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39625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0384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28954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3429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37339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3733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05720" y="38862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43434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15200" y="43434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001000" y="4572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48006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96080" y="46483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52280" y="236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33412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686800" y="3885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6320" y="2209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2824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4800" y="16765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640" y="2286000"/>
            <a:ext cx="7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33526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57200" y="3276720"/>
            <a:ext cx="182520" cy="182520"/>
            <a:chOff x="457200" y="3276720"/>
            <a:chExt cx="182520" cy="182520"/>
          </a:xfrm>
        </p:grpSpPr>
        <p:sp>
          <p:nvSpPr>
            <p:cNvPr id="205" name=""/>
            <p:cNvSpPr/>
            <p:nvPr/>
          </p:nvSpPr>
          <p:spPr>
            <a:xfrm>
              <a:off x="45720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5400000">
              <a:off x="49140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041480" y="3200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11744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27008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7440" y="3276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19376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520" y="29718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3352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048120"/>
            <a:ext cx="30492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3505320"/>
            <a:ext cx="1526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62320" y="350532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16002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4760" y="1600200"/>
            <a:ext cx="64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2590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26668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708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7280" y="2590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590920" y="3276720"/>
            <a:ext cx="182520" cy="182520"/>
            <a:chOff x="2590920" y="3276720"/>
            <a:chExt cx="182520" cy="182520"/>
          </a:xfrm>
        </p:grpSpPr>
        <p:sp>
          <p:nvSpPr>
            <p:cNvPr id="228" name=""/>
            <p:cNvSpPr/>
            <p:nvPr/>
          </p:nvSpPr>
          <p:spPr>
            <a:xfrm>
              <a:off x="259092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262512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514600" y="33526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048120"/>
            <a:ext cx="30492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3505320"/>
            <a:ext cx="1526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350532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95680" y="18288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13716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09680" y="1828800"/>
            <a:ext cx="685800" cy="38088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2133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2209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43828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1460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90920" y="2133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74320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21337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89548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48120" y="2133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20040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44280" y="1066680"/>
            <a:ext cx="64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y 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1676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3526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8360" y="23623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28760" y="12193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3352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581280" y="3276720"/>
            <a:ext cx="182520" cy="182520"/>
            <a:chOff x="3581280" y="3276720"/>
            <a:chExt cx="182520" cy="182520"/>
          </a:xfrm>
        </p:grpSpPr>
        <p:sp>
          <p:nvSpPr>
            <p:cNvPr id="266" name=""/>
            <p:cNvSpPr/>
            <p:nvPr/>
          </p:nvSpPr>
          <p:spPr>
            <a:xfrm>
              <a:off x="358128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361548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73392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91120" y="3200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266720" y="3429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266720" y="3276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67080" y="32767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267080" y="33526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343400" y="22096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2209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006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2362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00600" y="2362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0060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24280" y="2895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29718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00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495320" y="3276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3429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105160" y="2514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83080" y="2502000"/>
            <a:ext cx="622440" cy="101520"/>
          </a:xfrm>
          <a:custGeom>
            <a:avLst/>
            <a:gdLst/>
            <a:ahLst/>
            <a:rect l="l" t="t" r="r" b="b"/>
            <a:pathLst>
              <a:path w="392" h="64">
                <a:moveTo>
                  <a:pt x="392" y="8"/>
                </a:moveTo>
                <a:cubicBezTo>
                  <a:pt x="252" y="4"/>
                  <a:pt x="112" y="0"/>
                  <a:pt x="56" y="8"/>
                </a:cubicBezTo>
                <a:cubicBezTo>
                  <a:pt x="0" y="16"/>
                  <a:pt x="0" y="48"/>
                  <a:pt x="56" y="56"/>
                </a:cubicBezTo>
                <a:cubicBezTo>
                  <a:pt x="112" y="64"/>
                  <a:pt x="336" y="56"/>
                  <a:pt x="392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05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1600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952880" y="1676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029200" y="1294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0748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16600" y="350532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79080" y="28954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54320" y="160020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P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30640" y="190512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05520" y="33526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486400" y="32767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29200" y="32767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80024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00600" y="3581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100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67080" y="41148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4648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4648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3434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9625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88720" y="365760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12040" y="4191120"/>
            <a:ext cx="45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4952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51814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533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50480" y="51055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56386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19920" y="5486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609552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6095520" y="5562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55627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6095880" y="56386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172200" y="342864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19920" y="3124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60955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60955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95880" y="32004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0958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32448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3244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172200" y="23623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10280" y="2133720"/>
            <a:ext cx="914400" cy="19047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904760"/>
              <a:gd name="textAreaBottom" fmla="*/ 1860120 h 1904760"/>
            </a:gdLst>
            <a:ahLst/>
            <a:rect l="textAreaLeft" t="textAreaTop" r="textAreaRight" b="textAreaBottom"/>
            <a:pathLst>
              <a:path w="21600" h="44985">
                <a:moveTo>
                  <a:pt x="3600" y="0"/>
                </a:moveTo>
                <a:arcTo wR="3600" hR="3600" stAng="16200000" swAng="-5400000"/>
                <a:lnTo>
                  <a:pt x="0" y="41385"/>
                </a:lnTo>
                <a:arcTo wR="3600" hR="3600" stAng="10800000" swAng="-5400000"/>
                <a:lnTo>
                  <a:pt x="18000" y="449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72200" y="23623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86600" y="243828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08660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716256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72388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39152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74674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2012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76960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281952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08660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716256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9152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4674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62012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6960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86600" y="320040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0866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7162560" y="32763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72388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391520" y="3276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74674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20120" y="3276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76960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086600" y="358128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70866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716256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7238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915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74674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6201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6960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48120" y="36576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34800" y="365760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79246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792468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9246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79246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20120" y="1905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76960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777240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97520" y="190512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P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9246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8381880" y="25905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39152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246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0773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383320" y="388620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838188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305920" y="21337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38188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534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845820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838188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6104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53452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3818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154360" y="42670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7732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467480" y="4038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91520" y="4495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91520" y="4572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45960" y="4495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467480" y="47242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6324120" y="55627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96080" y="5562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7724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92468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7848360" y="5715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772400" y="5715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9246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777240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01000" y="5715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534520" y="51814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8390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610480" y="5715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839080" y="5715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9917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8610120" y="4876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37040" y="46483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03520" y="487692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45760" y="579132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717160" y="297180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460360" y="23623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22280" y="586728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106240" y="312408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707160" y="182880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ss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57150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6934320" y="57146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34320" y="57150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40080" y="22860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9051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47920" y="32004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43200" y="32004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32004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676520" y="28954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09880" y="32004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48120" y="23623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2590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29528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143000" y="36576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90720" y="35053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876920" y="13716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91120" y="25909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1240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495680" y="33526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91120" y="38098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648320" y="37339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781680" y="6019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553080" y="5867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76920" y="54864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3733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81480" y="25146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10080" y="23623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924680" y="41148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315200" y="4876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077320" y="55627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839080" y="4876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620120" y="16765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0481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324480" y="32767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25909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19920" y="43434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24680" y="21337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81880" y="17524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229600" y="19051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610480" y="21337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1814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620120" y="53341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001000" y="3581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001000" y="32004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001000" y="28195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2438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15228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572000" y="3962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868680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762120" y="4343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38080" y="4876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066680" y="4876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1430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7621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8320" y="38098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1120" y="434340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6320" y="6858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" y="380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76320" y="380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520" y="1522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8320" y="68580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0880" y="838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52280" y="1219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80880" y="1219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62120" y="22860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0666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38080" y="28195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66680" y="28195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4572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3400" y="17524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31120" y="2286000"/>
            <a:ext cx="531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2120" y="2971800"/>
            <a:ext cx="622080" cy="101520"/>
          </a:xfrm>
          <a:custGeom>
            <a:avLst/>
            <a:gdLst/>
            <a:ahLst/>
            <a:rect l="l" t="t" r="r" b="b"/>
            <a:pathLst>
              <a:path w="392" h="64">
                <a:moveTo>
                  <a:pt x="392" y="8"/>
                </a:moveTo>
                <a:cubicBezTo>
                  <a:pt x="252" y="4"/>
                  <a:pt x="112" y="0"/>
                  <a:pt x="56" y="8"/>
                </a:cubicBezTo>
                <a:cubicBezTo>
                  <a:pt x="0" y="16"/>
                  <a:pt x="0" y="48"/>
                  <a:pt x="56" y="56"/>
                </a:cubicBezTo>
                <a:cubicBezTo>
                  <a:pt x="112" y="64"/>
                  <a:pt x="336" y="56"/>
                  <a:pt x="392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37124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37160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066680" y="3124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066680" y="5181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990720" y="3352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3429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5410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90720" y="54864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3581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066680" y="5638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066680" y="3733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600200" y="3581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67652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82880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7524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82880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600200" y="5638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167652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182880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676520" y="5715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752480" y="5715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82880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05120" y="37339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57913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11640" y="3352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11640" y="5410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26040" y="33526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26040" y="54100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666880" y="3886200"/>
            <a:ext cx="12193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276720" y="4267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5181480"/>
            <a:ext cx="5335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276720" y="5181480"/>
            <a:ext cx="5331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76720" y="4724280"/>
            <a:ext cx="5331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743200" y="4724280"/>
            <a:ext cx="5335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2438280" y="42670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3828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438280" y="2286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43828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641680" y="5321160"/>
            <a:ext cx="1244520" cy="101880"/>
          </a:xfrm>
          <a:custGeom>
            <a:avLst/>
            <a:gdLst/>
            <a:ahLst/>
            <a:rect l="l" t="t" r="r" b="b"/>
            <a:pathLst>
              <a:path w="784" h="64">
                <a:moveTo>
                  <a:pt x="784" y="8"/>
                </a:moveTo>
                <a:cubicBezTo>
                  <a:pt x="504" y="4"/>
                  <a:pt x="224" y="0"/>
                  <a:pt x="112" y="8"/>
                </a:cubicBezTo>
                <a:cubicBezTo>
                  <a:pt x="0" y="16"/>
                  <a:pt x="0" y="48"/>
                  <a:pt x="112" y="56"/>
                </a:cubicBezTo>
                <a:cubicBezTo>
                  <a:pt x="224" y="64"/>
                  <a:pt x="672" y="56"/>
                  <a:pt x="784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584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862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6668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666880" y="33526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743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432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8160" y="3276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891800" y="2362320"/>
            <a:ext cx="5691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2286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33526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29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4290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886920" y="4114800"/>
            <a:ext cx="4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73960" y="3276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767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5638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200400" y="5715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59436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267080" y="586728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09880" y="586728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2767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276720" y="6019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19112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335268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352680" y="6172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6553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4648320" y="320004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52880" y="2895480"/>
            <a:ext cx="30492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1055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528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10552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821680" y="5638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86920" y="624852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791320" y="30492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9588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199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9920" y="13716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958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905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601956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601956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9920" y="19810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6019920" y="20574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6248160" y="1981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248520" y="2133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5105160" y="2590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1055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5485680" y="3962520"/>
            <a:ext cx="742320" cy="765360"/>
            <a:chOff x="5485680" y="3962520"/>
            <a:chExt cx="742320" cy="765360"/>
          </a:xfrm>
        </p:grpSpPr>
        <p:sp>
          <p:nvSpPr>
            <p:cNvPr id="591" name=""/>
            <p:cNvSpPr/>
            <p:nvPr/>
          </p:nvSpPr>
          <p:spPr>
            <a:xfrm>
              <a:off x="5808600" y="39625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2" name=""/>
            <p:cNvCxnSpPr/>
            <p:nvPr/>
          </p:nvCxnSpPr>
          <p:spPr>
            <a:xfrm flipH="1">
              <a:off x="5485680" y="41450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3" name=""/>
            <p:cNvCxnSpPr/>
            <p:nvPr/>
          </p:nvCxnSpPr>
          <p:spPr>
            <a:xfrm flipH="1" flipV="1">
              <a:off x="5899320" y="41536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4" name=""/>
            <p:cNvCxnSpPr/>
            <p:nvPr/>
          </p:nvCxnSpPr>
          <p:spPr>
            <a:xfrm flipH="1" flipV="1">
              <a:off x="5899320" y="42296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5" name=""/>
            <p:cNvCxnSpPr/>
            <p:nvPr/>
          </p:nvCxnSpPr>
          <p:spPr>
            <a:xfrm flipH="1" flipV="1">
              <a:off x="5899320" y="43110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6" name=""/>
            <p:cNvCxnSpPr/>
            <p:nvPr/>
          </p:nvCxnSpPr>
          <p:spPr>
            <a:xfrm flipH="1" flipV="1">
              <a:off x="5899320" y="4379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7" name=""/>
            <p:cNvCxnSpPr/>
            <p:nvPr/>
          </p:nvCxnSpPr>
          <p:spPr>
            <a:xfrm flipH="1" flipV="1">
              <a:off x="5899320" y="4460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8" name=""/>
            <p:cNvCxnSpPr/>
            <p:nvPr/>
          </p:nvCxnSpPr>
          <p:spPr>
            <a:xfrm flipH="1">
              <a:off x="5485680" y="4221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9" name=""/>
            <p:cNvCxnSpPr/>
            <p:nvPr/>
          </p:nvCxnSpPr>
          <p:spPr>
            <a:xfrm flipH="1">
              <a:off x="5485680" y="4302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0" name=""/>
            <p:cNvCxnSpPr/>
            <p:nvPr/>
          </p:nvCxnSpPr>
          <p:spPr>
            <a:xfrm flipH="1">
              <a:off x="5486040" y="4379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1" name=""/>
            <p:cNvCxnSpPr/>
            <p:nvPr/>
          </p:nvCxnSpPr>
          <p:spPr>
            <a:xfrm flipH="1">
              <a:off x="5486040" y="4460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2" name=""/>
            <p:cNvCxnSpPr/>
            <p:nvPr/>
          </p:nvCxnSpPr>
          <p:spPr>
            <a:xfrm>
              <a:off x="5486760" y="47271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3" name=""/>
            <p:cNvCxnSpPr/>
            <p:nvPr/>
          </p:nvCxnSpPr>
          <p:spPr>
            <a:xfrm>
              <a:off x="548604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4" name=""/>
            <p:cNvCxnSpPr/>
            <p:nvPr/>
          </p:nvCxnSpPr>
          <p:spPr>
            <a:xfrm>
              <a:off x="622692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605" name=""/>
          <p:cNvGrpSpPr/>
          <p:nvPr/>
        </p:nvGrpSpPr>
        <p:grpSpPr>
          <a:xfrm>
            <a:off x="7314480" y="3962520"/>
            <a:ext cx="742320" cy="765360"/>
            <a:chOff x="7314480" y="3962520"/>
            <a:chExt cx="742320" cy="765360"/>
          </a:xfrm>
        </p:grpSpPr>
        <p:sp>
          <p:nvSpPr>
            <p:cNvPr id="606" name=""/>
            <p:cNvSpPr/>
            <p:nvPr/>
          </p:nvSpPr>
          <p:spPr>
            <a:xfrm>
              <a:off x="7637400" y="39625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7" name=""/>
            <p:cNvCxnSpPr/>
            <p:nvPr/>
          </p:nvCxnSpPr>
          <p:spPr>
            <a:xfrm flipH="1">
              <a:off x="7314480" y="41450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8" name=""/>
            <p:cNvCxnSpPr/>
            <p:nvPr/>
          </p:nvCxnSpPr>
          <p:spPr>
            <a:xfrm flipH="1" flipV="1">
              <a:off x="7728120" y="41536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9" name=""/>
            <p:cNvCxnSpPr/>
            <p:nvPr/>
          </p:nvCxnSpPr>
          <p:spPr>
            <a:xfrm flipH="1" flipV="1">
              <a:off x="7728120" y="42296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0" name=""/>
            <p:cNvCxnSpPr/>
            <p:nvPr/>
          </p:nvCxnSpPr>
          <p:spPr>
            <a:xfrm flipH="1" flipV="1">
              <a:off x="7728120" y="43110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1" name=""/>
            <p:cNvCxnSpPr/>
            <p:nvPr/>
          </p:nvCxnSpPr>
          <p:spPr>
            <a:xfrm flipH="1" flipV="1">
              <a:off x="7728120" y="4379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2" name=""/>
            <p:cNvCxnSpPr/>
            <p:nvPr/>
          </p:nvCxnSpPr>
          <p:spPr>
            <a:xfrm flipH="1" flipV="1">
              <a:off x="7728120" y="4460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3" name=""/>
            <p:cNvCxnSpPr/>
            <p:nvPr/>
          </p:nvCxnSpPr>
          <p:spPr>
            <a:xfrm flipH="1">
              <a:off x="7314480" y="4221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4" name=""/>
            <p:cNvCxnSpPr/>
            <p:nvPr/>
          </p:nvCxnSpPr>
          <p:spPr>
            <a:xfrm flipH="1">
              <a:off x="7314480" y="4302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5" name=""/>
            <p:cNvCxnSpPr/>
            <p:nvPr/>
          </p:nvCxnSpPr>
          <p:spPr>
            <a:xfrm flipH="1">
              <a:off x="7314840" y="4379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6" name=""/>
            <p:cNvCxnSpPr/>
            <p:nvPr/>
          </p:nvCxnSpPr>
          <p:spPr>
            <a:xfrm flipH="1">
              <a:off x="7314840" y="4460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7" name=""/>
            <p:cNvCxnSpPr/>
            <p:nvPr/>
          </p:nvCxnSpPr>
          <p:spPr>
            <a:xfrm>
              <a:off x="7315560" y="47271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8" name=""/>
            <p:cNvCxnSpPr/>
            <p:nvPr/>
          </p:nvCxnSpPr>
          <p:spPr>
            <a:xfrm>
              <a:off x="731484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9" name=""/>
            <p:cNvCxnSpPr/>
            <p:nvPr/>
          </p:nvCxnSpPr>
          <p:spPr>
            <a:xfrm>
              <a:off x="805572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20" name=""/>
          <p:cNvSpPr/>
          <p:nvPr/>
        </p:nvSpPr>
        <p:spPr>
          <a:xfrm>
            <a:off x="6781680" y="2895480"/>
            <a:ext cx="30492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9343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7816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3432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10552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257800" y="3581280"/>
            <a:ext cx="182520" cy="182520"/>
            <a:chOff x="5257800" y="3581280"/>
            <a:chExt cx="182520" cy="182520"/>
          </a:xfrm>
        </p:grpSpPr>
        <p:sp>
          <p:nvSpPr>
            <p:cNvPr id="626" name=""/>
            <p:cNvSpPr/>
            <p:nvPr/>
          </p:nvSpPr>
          <p:spPr>
            <a:xfrm>
              <a:off x="5257800" y="35812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5400000">
              <a:off x="5292000" y="36075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1055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4100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9343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0958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8672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53341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6324480" y="32004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32448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93432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7086600" y="3581280"/>
            <a:ext cx="182520" cy="182520"/>
            <a:chOff x="7086600" y="3581280"/>
            <a:chExt cx="182520" cy="182520"/>
          </a:xfrm>
        </p:grpSpPr>
        <p:sp>
          <p:nvSpPr>
            <p:cNvPr id="639" name=""/>
            <p:cNvSpPr/>
            <p:nvPr/>
          </p:nvSpPr>
          <p:spPr>
            <a:xfrm>
              <a:off x="7086600" y="35812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5400000">
              <a:off x="7120800" y="36075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69343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88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6960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403320" y="38088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88560" y="190512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031360" y="3886200"/>
            <a:ext cx="3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640840" y="12952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183640" y="3733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012440" y="3733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6960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8079120" y="3886200"/>
            <a:ext cx="3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6781320" y="40384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70000" y="47242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641200" y="47242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34280" y="2362320"/>
            <a:ext cx="64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781680" y="403848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391520" y="59436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746748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762012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467480" y="6019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7543800" y="60195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7620120" y="624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467480" y="624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781680" y="60958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696080" y="60958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220240" y="5638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524800" y="579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296200" y="6172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24800" y="6172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37252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799164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917840" y="51055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8603640" y="5181480"/>
            <a:ext cx="53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76720" y="5486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276720" y="5867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276720" y="60199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35268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352680" y="6172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352680" y="65530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4648320" y="3200040"/>
            <a:ext cx="0" cy="3352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648320" y="32004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10552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317360" y="57150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257800" y="2971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086600" y="2971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486400" y="685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952880" y="4572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425120" y="54144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e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08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808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838080" y="1600200"/>
            <a:ext cx="182520" cy="182520"/>
            <a:chOff x="838080" y="1600200"/>
            <a:chExt cx="182520" cy="182520"/>
          </a:xfrm>
        </p:grpSpPr>
        <p:sp>
          <p:nvSpPr>
            <p:cNvPr id="692" name=""/>
            <p:cNvSpPr/>
            <p:nvPr/>
          </p:nvSpPr>
          <p:spPr>
            <a:xfrm>
              <a:off x="838080" y="160020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5400000">
              <a:off x="872280" y="162648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990720" y="1676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87960" y="1371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04920" y="3808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19810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143000" y="18288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752480" y="28195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447920" y="29718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143000" y="3581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981080" y="3581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590920" y="35812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76720" y="35812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523880" y="39625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676520" y="41148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038480" y="5715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276720" y="58672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962520" y="53341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191120" y="51814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229600" y="53341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943600" y="3886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410080" y="3886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772400" y="3886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315200" y="35053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486400" y="35053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324480" y="2438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10080" y="2438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248520" y="20574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477120" y="18288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943600" y="1600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772400" y="59436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0" y="3886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6019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676520" y="61722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81080" y="56386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143000" y="56386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990720" y="40384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315200" y="62485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467480" y="64008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29000" y="6019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80988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38095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812400" y="33526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657600" y="3581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3124080" y="373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861048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838080" y="4190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114300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09480" y="53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5:59:34Z</dcterms:created>
  <dc:creator>Travis</dc:creator>
  <dc:description/>
  <dc:language>en-US</dc:language>
  <cp:lastModifiedBy>Travis</cp:lastModifiedBy>
  <dcterms:modified xsi:type="dcterms:W3CDTF">2010-04-04T23:53:46Z</dcterms:modified>
  <cp:revision>19</cp:revision>
  <dc:subject/>
  <dc:title>Slide 1</dc:title>
</cp:coreProperties>
</file>